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3.png" ContentType="image/png"/>
  <Override PartName="/ppt/media/image8.jpeg" ContentType="image/jpeg"/>
  <Override PartName="/ppt/media/image3.png" ContentType="image/png"/>
  <Override PartName="/ppt/media/image15.png" ContentType="image/png"/>
  <Override PartName="/ppt/media/image12.gif" ContentType="image/gif"/>
  <Override PartName="/ppt/media/image30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23.gif" ContentType="image/gif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B3D-A3FA-4894-92B3-7FFB77B3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CFE-05E9-48C5-806F-B0614A6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DE7-9285-4397-8CA1-6053864D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203-24FC-4042-9722-5DB33502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A9E-5E9E-4045-B092-4B3F3E0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CCF-5684-4698-AB03-C35865A2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C96-451F-4AB0-8E0F-F2DF3639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E35-62D9-415D-BABF-39D00EAF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710-56F9-428F-A4C7-3B72279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C57-CC84-4561-AE0F-0F7A5FB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0E5-CA96-4F1D-BF61-E166048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9FE-A1B9-461B-BA79-9BF93A2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3AE3-DBA5-42EF-89A7-813A1F0A3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22920;&#22920;&#27927;&#33050;&#12304;&#20844;&#30410;&#24191;&#21578;&#12305;.mp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73742702&amp;tn=baiduimagedetail&amp;word=&#27927;&#34915;&#26381;&amp;in=13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0160" y="378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难报三春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395280" y="33336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3399"/>
                </a:solidFill>
                <a:latin typeface="华文行楷"/>
              </a:rPr>
              <a:t>爱的清单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3399"/>
              </a:solidFill>
              <a:latin typeface="华文行楷"/>
              <a:ea typeface="华文行楷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125360"/>
            <a:ext cx="67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父母除了赋予我们生命外，在我们成长的过程中还为我们做了什么？我们又回报了父母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44520" y="2677320"/>
            <a:ext cx="63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父母的付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4067280" y="0"/>
            <a:ext cx="5076720" cy="5923080"/>
            <a:chOff x="4067280" y="0"/>
            <a:chExt cx="5076720" cy="5923080"/>
          </a:xfrm>
        </p:grpSpPr>
        <p:pic>
          <p:nvPicPr>
            <p:cNvPr id="68" name="Picture 6" descr="top-1-1_1"/>
            <p:cNvPicPr/>
            <p:nvPr/>
          </p:nvPicPr>
          <p:blipFill>
            <a:blip r:embed="rId1"/>
            <a:stretch/>
          </p:blipFill>
          <p:spPr>
            <a:xfrm>
              <a:off x="7020000" y="0"/>
              <a:ext cx="212400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7" descr="top-1-2_1"/>
            <p:cNvPicPr/>
            <p:nvPr/>
          </p:nvPicPr>
          <p:blipFill>
            <a:blip r:embed="rId2"/>
            <a:stretch/>
          </p:blipFill>
          <p:spPr>
            <a:xfrm>
              <a:off x="7020000" y="1517760"/>
              <a:ext cx="212400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8" descr="top-1-3_1"/>
            <p:cNvPicPr/>
            <p:nvPr/>
          </p:nvPicPr>
          <p:blipFill>
            <a:blip r:embed="rId3"/>
            <a:stretch/>
          </p:blipFill>
          <p:spPr>
            <a:xfrm>
              <a:off x="6900840" y="2779560"/>
              <a:ext cx="22258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top-1-4_1"/>
            <p:cNvPicPr/>
            <p:nvPr/>
          </p:nvPicPr>
          <p:blipFill>
            <a:blip r:embed="rId4"/>
            <a:stretch/>
          </p:blipFill>
          <p:spPr>
            <a:xfrm>
              <a:off x="4067280" y="4149720"/>
              <a:ext cx="237636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top-1-5_1"/>
            <p:cNvPicPr/>
            <p:nvPr/>
          </p:nvPicPr>
          <p:blipFill>
            <a:blip r:embed="rId5"/>
            <a:stretch/>
          </p:blipFill>
          <p:spPr>
            <a:xfrm>
              <a:off x="6624720" y="4167360"/>
              <a:ext cx="248436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AutoShape 11"/>
          <p:cNvSpPr/>
          <p:nvPr/>
        </p:nvSpPr>
        <p:spPr>
          <a:xfrm>
            <a:off x="2360520" y="4005360"/>
            <a:ext cx="144000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哺育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847800" y="3429000"/>
            <a:ext cx="143964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赋予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2360520" y="3429000"/>
            <a:ext cx="144000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爱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76160" y="4653000"/>
            <a:ext cx="144000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教给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847800" y="4076640"/>
            <a:ext cx="143964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照顾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2287440" y="4579920"/>
            <a:ext cx="1440000" cy="4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心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2"/>
          <p:cNvPicPr/>
          <p:nvPr/>
        </p:nvPicPr>
        <p:blipFill>
          <a:blip r:embed="rId1"/>
          <a:stretch/>
        </p:blipFill>
        <p:spPr>
          <a:xfrm>
            <a:off x="0" y="-54000"/>
            <a:ext cx="9906120" cy="691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18-01"/>
          <p:cNvPicPr/>
          <p:nvPr/>
        </p:nvPicPr>
        <p:blipFill>
          <a:blip r:embed="rId2"/>
          <a:stretch/>
        </p:blipFill>
        <p:spPr>
          <a:xfrm>
            <a:off x="2505240" y="1268280"/>
            <a:ext cx="4535280" cy="4272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6969240" y="37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父母为我做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5800" y="17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我为父母做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281240" y="260280"/>
            <a:ext cx="36003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31800" y="206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父母为家庭作出了贡献，为我们付出了很多，他们应当得到爱的回报，理应受到我们的孝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D07211_"/>
          <p:cNvPicPr/>
          <p:nvPr/>
        </p:nvPicPr>
        <p:blipFill>
          <a:blip r:embed="rId2"/>
          <a:stretch/>
        </p:blipFill>
        <p:spPr>
          <a:xfrm>
            <a:off x="6824520" y="404640"/>
            <a:ext cx="2210040" cy="19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L_033"/>
          <p:cNvPicPr/>
          <p:nvPr/>
        </p:nvPicPr>
        <p:blipFill>
          <a:blip r:embed="rId3"/>
          <a:stretch/>
        </p:blipFill>
        <p:spPr>
          <a:xfrm>
            <a:off x="849240" y="2133720"/>
            <a:ext cx="533520" cy="517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247840" y="517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9061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276200" y="3147840"/>
            <a:ext cx="49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孝敬父母是中华民族的传统美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BD07211_"/>
          <p:cNvPicPr/>
          <p:nvPr/>
        </p:nvPicPr>
        <p:blipFill>
          <a:blip r:embed="rId2"/>
          <a:stretch/>
        </p:blipFill>
        <p:spPr>
          <a:xfrm>
            <a:off x="5529240" y="620640"/>
            <a:ext cx="2209680" cy="191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GL_033"/>
          <p:cNvPicPr/>
          <p:nvPr/>
        </p:nvPicPr>
        <p:blipFill>
          <a:blip r:embed="rId3"/>
          <a:stretch/>
        </p:blipFill>
        <p:spPr>
          <a:xfrm>
            <a:off x="1352520" y="3213000"/>
            <a:ext cx="533520" cy="517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247840" y="517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-3625920"/>
            <a:ext cx="9906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3230640"/>
            <a:ext cx="9906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-3625920"/>
            <a:ext cx="9906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0" y="-3625920"/>
            <a:ext cx="9905760" cy="360"/>
            <a:chOff x="0" y="-3625920"/>
            <a:chExt cx="9905760" cy="360"/>
          </a:xfrm>
        </p:grpSpPr>
        <p:sp>
          <p:nvSpPr>
            <p:cNvPr id="98" name="Rectangle 6"/>
            <p:cNvSpPr/>
            <p:nvPr/>
          </p:nvSpPr>
          <p:spPr>
            <a:xfrm>
              <a:off x="0" y="-3625920"/>
              <a:ext cx="9905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0" y="-3625920"/>
              <a:ext cx="9905040" cy="360"/>
              <a:chOff x="0" y="-3625920"/>
              <a:chExt cx="9905040" cy="360"/>
            </a:xfrm>
          </p:grpSpPr>
          <p:sp>
            <p:nvSpPr>
              <p:cNvPr id="100" name="Rectangle 8"/>
              <p:cNvSpPr/>
              <p:nvPr/>
            </p:nvSpPr>
            <p:spPr>
              <a:xfrm>
                <a:off x="0" y="-3625920"/>
                <a:ext cx="97405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9"/>
              <p:cNvGrpSpPr/>
              <p:nvPr/>
            </p:nvGrpSpPr>
            <p:grpSpPr>
              <a:xfrm>
                <a:off x="0" y="-3625920"/>
                <a:ext cx="9905040" cy="360"/>
                <a:chOff x="0" y="-3625920"/>
                <a:chExt cx="9905040" cy="360"/>
              </a:xfrm>
            </p:grpSpPr>
            <p:sp>
              <p:nvSpPr>
                <p:cNvPr id="102" name="Rectangle 10"/>
                <p:cNvSpPr/>
                <p:nvPr/>
              </p:nvSpPr>
              <p:spPr>
                <a:xfrm>
                  <a:off x="0" y="-3625920"/>
                  <a:ext cx="9905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1"/>
                <p:cNvSpPr/>
                <p:nvPr/>
              </p:nvSpPr>
              <p:spPr>
                <a:xfrm>
                  <a:off x="0" y="-3625920"/>
                  <a:ext cx="9905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12" descr="040819125401171"/>
          <p:cNvPicPr/>
          <p:nvPr/>
        </p:nvPicPr>
        <p:blipFill>
          <a:blip r:embed="rId1"/>
          <a:stretch/>
        </p:blipFill>
        <p:spPr>
          <a:xfrm>
            <a:off x="704880" y="6654960"/>
            <a:ext cx="8353440" cy="203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776160" y="1268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吴大妈的五个子女认为养不养母亲是自己家里的事情，外人无权插手，即使妇联也管不着。你是如何看待这种说法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76160" y="278136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吴大妈的五个子女相互推卸责任，大儿子叫母亲去二哥家，二儿子又把母亲赶到大姐家里。作为长女的大姐却说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赡养父母是儿子的责任，女儿不用承当这个义务”。你是如何看待这个说法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88880" y="465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吴大妈的五个子女在接受了教育后表示愿意孝敬母亲。但是子女们只是每个月定期给母亲寄生活费，从来不过问老人的生活、身体状况，更别说探望母亲，帮老人家做些家务 。你是如何看待这种做法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040819125505859"/>
          <p:cNvPicPr/>
          <p:nvPr/>
        </p:nvPicPr>
        <p:blipFill>
          <a:blip r:embed="rId2"/>
          <a:stretch/>
        </p:blipFill>
        <p:spPr>
          <a:xfrm>
            <a:off x="743040" y="0"/>
            <a:ext cx="8089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15800" y="2708280"/>
            <a:ext cx="6050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孝敬父母，是子女对父母应尽的道德义务、法律义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GL_033"/>
          <p:cNvPicPr/>
          <p:nvPr/>
        </p:nvPicPr>
        <p:blipFill>
          <a:blip r:embed="rId2"/>
          <a:stretch/>
        </p:blipFill>
        <p:spPr>
          <a:xfrm>
            <a:off x="776160" y="2781360"/>
            <a:ext cx="533520" cy="51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BD07211_"/>
          <p:cNvPicPr/>
          <p:nvPr/>
        </p:nvPicPr>
        <p:blipFill>
          <a:blip r:embed="rId3"/>
          <a:stretch/>
        </p:blipFill>
        <p:spPr>
          <a:xfrm>
            <a:off x="5168880" y="549360"/>
            <a:ext cx="22096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88880" y="14130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母不仅赋予我们生命，而且含辛茹苦的哺育我们成长，教我们做人，这种恩情要永远铭记在我们的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20880" y="429264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孝敬父母是中华民族的传统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04880" y="5013360"/>
            <a:ext cx="842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孝敬父母，是子你被对父母应尽的道德义务、法律义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4520" y="2997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母为家庭作出了贡献，为我们付出了很多，他们应当得到爱的回报，理应受到我们的孝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76160" y="54936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什么要孝敬父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378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/>
              </a:rPr>
              <a:t>如何孝敬父母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412920" y="228600"/>
            <a:ext cx="6933960" cy="6629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爱的妈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儿子在给你写信。我已经好久没给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信了，因为我出差、渡假、住医院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这里现在正是秋高气爽、春光明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日炎炎、寒冬腊月的时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身体很好、还好、不太好、很不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不久我去过剧院、电影院、音乐厅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酒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打算再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就来看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知道你没钱花了，所以寄给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已经被任命为总工程师、厂长、经理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局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的儿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3549600" cy="141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打电话"/>
          <p:cNvPicPr/>
          <p:nvPr/>
        </p:nvPicPr>
        <p:blipFill>
          <a:blip r:embed="rId2"/>
          <a:stretch/>
        </p:blipFill>
        <p:spPr>
          <a:xfrm>
            <a:off x="0" y="2870280"/>
            <a:ext cx="5343480" cy="3987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3"/>
          <p:cNvPicPr/>
          <p:nvPr/>
        </p:nvPicPr>
        <p:blipFill>
          <a:blip r:embed="rId3"/>
          <a:stretch/>
        </p:blipFill>
        <p:spPr>
          <a:xfrm>
            <a:off x="4952880" y="0"/>
            <a:ext cx="49532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u=837540380,1650028909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94480" cy="480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59r13"/>
          <p:cNvPicPr/>
          <p:nvPr/>
        </p:nvPicPr>
        <p:blipFill>
          <a:blip r:embed="rId3"/>
          <a:stretch/>
        </p:blipFill>
        <p:spPr>
          <a:xfrm>
            <a:off x="5264280" y="2695680"/>
            <a:ext cx="46418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272880" y="907920"/>
            <a:ext cx="9128880" cy="5281200"/>
            <a:chOff x="272880" y="907920"/>
            <a:chExt cx="9128880" cy="5281200"/>
          </a:xfrm>
        </p:grpSpPr>
        <p:graphicFrame>
          <p:nvGraphicFramePr>
            <p:cNvPr id="124" name="Object 3"/>
            <p:cNvGraphicFramePr/>
            <p:nvPr/>
          </p:nvGraphicFramePr>
          <p:xfrm>
            <a:off x="272880" y="907920"/>
            <a:ext cx="912888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2880" y="907920"/>
                      <a:ext cx="9128880" cy="475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Text Box 4"/>
            <p:cNvSpPr/>
            <p:nvPr/>
          </p:nvSpPr>
          <p:spPr>
            <a:xfrm>
              <a:off x="4969080" y="585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孝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1005040136133667"/>
          <p:cNvPicPr/>
          <p:nvPr/>
        </p:nvPicPr>
        <p:blipFill>
          <a:blip r:embed="rId1"/>
          <a:stretch/>
        </p:blipFill>
        <p:spPr>
          <a:xfrm>
            <a:off x="380880" y="0"/>
            <a:ext cx="95252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5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孝敬父母的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76520" y="1341360"/>
            <a:ext cx="682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爱父母，心里想着父母，理解、  关心父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行动上帮助父母，为父母分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学习、积极上进，让父母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bbk010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209600" y="620640"/>
            <a:ext cx="82803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</a:t>
            </a: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</a:t>
            </a:r>
            <a:r>
              <a:rPr b="1" i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近来与他的同事关系不好，改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个同学去教训那个同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了交我上学课本费，妈妈晚上要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署去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得去帮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着爸爸搓麻将那么累，我还是慢点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，帮他搓几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家里太穷了，爸妈叫我别再上初中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赚钱，我只好答应了，辍学打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爸爸近来心情不好，总想着要去吸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想办法，帮帮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5400000">
            <a:off x="29160" y="2593080"/>
            <a:ext cx="3295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黑体"/>
              </a:rPr>
              <a:t>请你说说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0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576520" y="1268280"/>
            <a:ext cx="73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655fd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5fd3"/>
                </a:solidFill>
                <a:latin typeface="黑体"/>
                <a:ea typeface="黑体"/>
              </a:rPr>
              <a:t>如果父母做了不道德的事，我们要勇于批评和制止，这是为了使父母尽早纠正错误，是孝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655fd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果父母触犯了法律，作为儿女要按法律办事，不能包庇其违法行为，这同样是一种孝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704880" y="549360"/>
            <a:ext cx="5448240" cy="54864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爱的儿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多么盼望你能来封信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你却是个大忙人，哪有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顾得上这种小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只好替你写了这封信，你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简单地把那些不该要的词句划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给我就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J_00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4360" y="1341360"/>
            <a:ext cx="813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小峰的事例讨论三个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为小峰的多动症、成绩差而伤心，却在小峰面前露出笑脸、鼓励他，这是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理解小峰的妈妈的一片苦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峰以什么方式回报母亲？对你有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440160" y="189000"/>
            <a:ext cx="6465960" cy="2871720"/>
          </a:xfrm>
          <a:prstGeom prst="borderCallout2">
            <a:avLst>
              <a:gd name="adj1" fmla="val 18750"/>
              <a:gd name="adj2" fmla="val -8333"/>
              <a:gd name="adj3" fmla="val 3981"/>
              <a:gd name="adj4" fmla="val -1180"/>
              <a:gd name="adj5" fmla="val 101106"/>
              <a:gd name="adj6" fmla="val -2420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峰的妈妈不仅爱孩子，而且还懂得激励的艺术。她把小峰的困难当成自己的困难，为他伤心。但她知道只伤心、责备不能解决问题，因而努力调动小峰的积极因素，鼓励他，表扬他的长处，期待他改正不足，努力进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737240" y="1552680"/>
            <a:ext cx="5182920" cy="2706480"/>
          </a:xfrm>
          <a:prstGeom prst="borderCallout2">
            <a:avLst>
              <a:gd name="adj1" fmla="val 18750"/>
              <a:gd name="adj2" fmla="val -8333"/>
              <a:gd name="adj3" fmla="val 4222"/>
              <a:gd name="adj4" fmla="val -1472"/>
              <a:gd name="adj5" fmla="val 79939"/>
              <a:gd name="adj6" fmla="val -5307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完全是为了孩子，以自己的精心设计帮助孩子。妈妈的苦心，表现出对小峰赤诚的爱，对孩子的无限期待，对未来的关注，以及为了孩子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牺牲自己的奉献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775040" y="2284560"/>
            <a:ext cx="5162760" cy="2305080"/>
          </a:xfrm>
          <a:prstGeom prst="borderCallout2">
            <a:avLst>
              <a:gd name="adj1" fmla="val 18750"/>
              <a:gd name="adj2" fmla="val -8333"/>
              <a:gd name="adj3" fmla="val 4958"/>
              <a:gd name="adj4" fmla="val -1476"/>
              <a:gd name="adj5" fmla="val 86226"/>
              <a:gd name="adj6" fmla="val -4375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峰对母亲的回报，是自己的进步成长让母亲的期待如愿以偿，看到孩子成长进步而得到精神的满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513240" y="4775040"/>
            <a:ext cx="4752720" cy="1657440"/>
          </a:xfrm>
          <a:prstGeom prst="borderCallout2">
            <a:avLst>
              <a:gd name="adj1" fmla="val 18750"/>
              <a:gd name="adj2" fmla="val -8333"/>
              <a:gd name="adj3" fmla="val 6898"/>
              <a:gd name="adj4" fmla="val -14162"/>
              <a:gd name="adj5" fmla="val 5652"/>
              <a:gd name="adj6" fmla="val -348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无私奉献的母亲，我们最大的回报就是要在学习、事业上获得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00aeb2441250dddc5c50b"/>
          <p:cNvPicPr/>
          <p:nvPr/>
        </p:nvPicPr>
        <p:blipFill>
          <a:blip r:embed="rId1"/>
          <a:stretch/>
        </p:blipFill>
        <p:spPr>
          <a:xfrm>
            <a:off x="272880" y="0"/>
            <a:ext cx="437688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7978739"/>
          <p:cNvPicPr/>
          <p:nvPr/>
        </p:nvPicPr>
        <p:blipFill>
          <a:blip r:embed="rId2"/>
          <a:stretch/>
        </p:blipFill>
        <p:spPr>
          <a:xfrm>
            <a:off x="5097600" y="404640"/>
            <a:ext cx="410364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831475"/>
          <p:cNvPicPr/>
          <p:nvPr/>
        </p:nvPicPr>
        <p:blipFill>
          <a:blip r:embed="rId3"/>
          <a:stretch/>
        </p:blipFill>
        <p:spPr>
          <a:xfrm>
            <a:off x="631800" y="3933720"/>
            <a:ext cx="3600360" cy="29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8258728"/>
          <p:cNvPicPr/>
          <p:nvPr/>
        </p:nvPicPr>
        <p:blipFill>
          <a:blip r:embed="rId4"/>
          <a:stretch/>
        </p:blipFill>
        <p:spPr>
          <a:xfrm>
            <a:off x="4952880" y="3780000"/>
            <a:ext cx="43927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28760" y="333360"/>
            <a:ext cx="947736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孩子！当你还很小的时候，我花了很多时间，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        教你慢慢用汤匙，用筷子吃东西；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        教你系鞋带，扣口子，溜滑梯；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        教你穿衣服，梳头发，擤鼻涕；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 这些和你在一起的点点滴滴，是多么的令我怀念不已。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　所以，当我想不起来，接不上话时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请给我一点时间，等我一下，让我再想一想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　极可能最后连要说什么，我也一并忘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孩子！你忘记我们练习了好几百回才学会的第一首娃娃歌吗？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是否还记得每天总要我绞尽脑汁，去回答不知道从哪里冒出来的“为什么”吗？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　   所以，当我重复又重复说着老掉牙的故事，哼着我孩提时代的儿歌时，体谅我，让我继续沉醉在这些回忆中吧！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       希望你，也能陪着我闲话家常吧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72880" y="260280"/>
            <a:ext cx="878364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！现在我常忘了扣口子，系鞋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吃饭时，会弄脏衣服，梳头发时手还会不停的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不要催促我，要对我多一点耐心和温柔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只要有你在一起，就会有很多的温暖涌上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孩子！如今，我的脚站也站不稳，走也走不动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所以，请你紧紧的握着我的手，陪着我，慢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像当年一样，我带着你一步一步地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2880" y="206064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父母不仅赋予我们生命，而且含辛茹苦的哺育我们成长，教我们做人，这种恩情要永远铭记在我们的心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BD07211_"/>
          <p:cNvPicPr/>
          <p:nvPr/>
        </p:nvPicPr>
        <p:blipFill>
          <a:blip r:embed="rId2"/>
          <a:stretch/>
        </p:blipFill>
        <p:spPr>
          <a:xfrm>
            <a:off x="5457960" y="189000"/>
            <a:ext cx="220968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GL_033"/>
          <p:cNvPicPr/>
          <p:nvPr/>
        </p:nvPicPr>
        <p:blipFill>
          <a:blip r:embed="rId3"/>
          <a:stretch/>
        </p:blipFill>
        <p:spPr>
          <a:xfrm>
            <a:off x="344520" y="1989000"/>
            <a:ext cx="533520" cy="517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47840" y="517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838080" y="4572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26840" y="228600"/>
            <a:ext cx="4861080" cy="301860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妈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帮你刷碗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次，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帮你叠被两周，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被评为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三好学生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你一共欠我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请你尽快还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936880" y="3500280"/>
            <a:ext cx="6730920" cy="253116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多年如一日供你吃穿用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对你无微不至的照顾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被评为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优秀家长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永远都不要你还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6537240" y="476280"/>
            <a:ext cx="2806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3399"/>
                </a:solidFill>
                <a:latin typeface="华文行楷"/>
              </a:rPr>
              <a:t>爱的清单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3399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1:19:27Z</dcterms:created>
  <dc:creator>acolor</dc:creator>
  <dc:description/>
  <cp:keywords/>
  <dc:language>en-US</dc:language>
  <cp:lastModifiedBy>dell</cp:lastModifiedBy>
  <dcterms:modified xsi:type="dcterms:W3CDTF">2016-05-17T06:44:32Z</dcterms:modified>
  <cp:revision>242</cp:revision>
  <dc:subject/>
  <dc:title>flash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  <property fmtid="{D5CDD505-2E9C-101B-9397-08002B2CF9AE}" pid="3" name="_TemplateID">
    <vt:lpwstr>TC010721222052</vt:lpwstr>
  </property>
</Properties>
</file>